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29AE-6C86-4988-BE4F-CEC87DEF1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Nonfiction Reading and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real-lif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content areas (SS and Science) to lite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ed, leveled libraries (specific to gen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-Ri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rics- Writer’s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brations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840-94C7-44AC-96E1-B2DBDA2A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559-5B68-4421-ACC8-DD4CACA2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4F2-7C47-4B76-932A-A36139F8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B21-F256-4CC5-8310-D99C7DE6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84D-5FB0-435B-A37C-2AE88781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4DC-5E5D-4BAD-92A1-26D6E231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791-3F5E-473E-8B9E-1E17A3AB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009-5B78-4663-AAF6-E6A86545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9A7-5275-4688-8694-B47F829D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7BB-A1D4-4553-B248-D2072F85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B31-B5F3-4446-B2F3-CB787FAE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085-1EA5-440E-ADBE-4946838E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16F4-2CFB-4F12-B1F5-93AB7466B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West Haverstraw’s Journey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“Assess for Succes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ing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assess for succes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sure our ultimate goals of student proficiency and master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sessing for l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1684440" cy="1684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empus Sans ITC"/>
              </a:rPr>
              <a:t>Focus on Nonfi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600200"/>
          <a:ext cx="8382240" cy="48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838224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523880" y="1371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064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empus Sans ITC"/>
              </a:rPr>
              <a:t>Focus on Internal 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2286000"/>
          <a:ext cx="8610480" cy="390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861048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00080" y="1600200"/>
            <a:ext cx="189216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086600" y="10666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empus Sans ITC"/>
              </a:rPr>
              <a:t>State Assess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5238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mericana BT"/>
              </a:rPr>
              <a:t>Objective:</a:t>
            </a:r>
            <a:r>
              <a:rPr b="0" lang="en-US" sz="2400" spc="-1" strike="noStrike">
                <a:solidFill>
                  <a:srgbClr val="000000"/>
                </a:solidFill>
                <a:latin typeface="Americana BT"/>
              </a:rPr>
              <a:t> Students in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mericana B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mericana BT"/>
              </a:rPr>
              <a:t> grade will attain Proficiency, Level 3 or Mastery, Level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mericana BT"/>
              </a:rPr>
              <a:t>Where we were: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mericana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mericana BT"/>
              </a:rPr>
              <a:t>ELA 4 Results</a:t>
            </a:r>
            <a:r>
              <a:rPr b="0" i="1" lang="en-US" sz="2400" spc="-1" strike="noStrike">
                <a:solidFill>
                  <a:srgbClr val="000000"/>
                </a:solidFill>
                <a:latin typeface="Americana BT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mericana BT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mericana BT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mericana BT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mericana BT"/>
              </a:rPr>
              <a:t>Math 4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3429000"/>
          <a:ext cx="4381560" cy="3219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429000"/>
                    <a:ext cx="43815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80880" y="129528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0" y="3433680"/>
          <a:ext cx="4367160" cy="3229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3433680"/>
                    <a:ext cx="436716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empus Sans ITC"/>
              </a:rPr>
              <a:t>Student Excel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We are what we repeatedly do.  Excellence, then, is not an act, but a habi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empus Sans ITC"/>
              </a:rPr>
              <a:t>Making “Student Proficiency” Happe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438280"/>
            <a:ext cx="80773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Pro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the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t, and can the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429000"/>
            <a:ext cx="251460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267080"/>
            <a:ext cx="342900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5943600"/>
            <a:ext cx="2666880" cy="64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895480" y="3581280"/>
            <a:ext cx="609840" cy="533520"/>
          </a:xfrm>
          <a:custGeom>
            <a:avLst/>
            <a:gdLst>
              <a:gd name="textAreaLeft" fmla="*/ 203400 w 609840"/>
              <a:gd name="textAreaRight" fmla="*/ 522360 w 60984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086600" y="5181480"/>
            <a:ext cx="609480" cy="533520"/>
          </a:xfrm>
          <a:custGeom>
            <a:avLst/>
            <a:gdLst>
              <a:gd name="textAreaLeft" fmla="*/ 203040 w 609480"/>
              <a:gd name="textAreaRight" fmla="*/ 522000 w 6094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096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5105520"/>
            <a:ext cx="3429000" cy="64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105520" y="4343400"/>
            <a:ext cx="609480" cy="533520"/>
          </a:xfrm>
          <a:custGeom>
            <a:avLst/>
            <a:gdLst>
              <a:gd name="textAreaLeft" fmla="*/ 203040 w 609480"/>
              <a:gd name="textAreaRight" fmla="*/ 522000 w 6094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6172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. Ho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80520" y="-3960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209680"/>
            <a:ext cx="815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can’t measure it, did it happen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DuFour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2743200" cy="24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empus Sans ITC"/>
              </a:rPr>
              <a:t>The Road to Student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want them to know? How will we determine proficient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enduring understand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essential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our students know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n’t our students know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get all our students where we need them to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55627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iculum Map – Uni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1055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1880" y="50292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495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Unit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533412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Road to Success – Ment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905120"/>
            <a:ext cx="0" cy="3809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of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47242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oing Learning of Skills/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4800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038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4952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297180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5120" y="3352680"/>
            <a:ext cx="809640" cy="1354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505320" y="2362320"/>
            <a:ext cx="946080" cy="158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066680" y="4419720"/>
            <a:ext cx="536760" cy="896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971800" y="4419720"/>
            <a:ext cx="536400" cy="896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800600" y="4419720"/>
            <a:ext cx="536400" cy="896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6324480" y="4419720"/>
            <a:ext cx="536760" cy="896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410080" y="3429000"/>
            <a:ext cx="809640" cy="1353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8001000" y="3581280"/>
            <a:ext cx="855720" cy="1430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6095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64911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ing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.  Ass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600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.  Assess. Check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7432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.  Ass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2286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Unit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What Does Assessmen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971800"/>
            <a:ext cx="8458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051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z/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       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log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ask/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819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10480" y="2819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8672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iculum Map – Uni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5410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5410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Unit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429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to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to We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o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81080" y="5105160"/>
            <a:ext cx="9144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51055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19320" y="5181480"/>
            <a:ext cx="838080" cy="754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324480" y="5181480"/>
            <a:ext cx="838440" cy="754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10280" y="57913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772400" y="579132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648320" y="4724280"/>
            <a:ext cx="868320" cy="99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571500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empus Sans ITC"/>
              </a:rPr>
              <a:t>Loop of Ongoing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864080" y="1523880"/>
            <a:ext cx="5417280" cy="5036760"/>
            <a:chOff x="1864080" y="1523880"/>
            <a:chExt cx="5417280" cy="5036760"/>
          </a:xfrm>
        </p:grpSpPr>
        <p:sp>
          <p:nvSpPr>
            <p:cNvPr id="136" name="_s11269"/>
            <p:cNvSpPr/>
            <p:nvPr/>
          </p:nvSpPr>
          <p:spPr>
            <a:xfrm>
              <a:off x="3466080" y="1545120"/>
              <a:ext cx="2212200" cy="2097720"/>
            </a:xfrm>
            <a:custGeom>
              <a:avLst/>
              <a:gdLst>
                <a:gd name="textAreaLeft" fmla="*/ 0 w 2212200"/>
                <a:gd name="textAreaRight" fmla="*/ 2212560 w 2212200"/>
                <a:gd name="textAreaTop" fmla="*/ 0 h 2097720"/>
                <a:gd name="textAreaBottom" fmla="*/ 2098080 h 209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1270"/>
            <p:cNvSpPr/>
            <p:nvPr/>
          </p:nvSpPr>
          <p:spPr>
            <a:xfrm rot="3060000">
              <a:off x="4624200" y="1989720"/>
              <a:ext cx="2097720" cy="2212560"/>
            </a:xfrm>
            <a:custGeom>
              <a:avLst/>
              <a:gdLst>
                <a:gd name="textAreaLeft" fmla="*/ 0 w 2097720"/>
                <a:gd name="textAreaRight" fmla="*/ 2098080 w 2097720"/>
                <a:gd name="textAreaTop" fmla="*/ 0 h 2212560"/>
                <a:gd name="textAreaBottom" fmla="*/ 2212920 h 22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d6e0e0"/>
                </a:gs>
                <a:gs pos="100000">
                  <a:srgbClr val="ffffff"/>
                </a:gs>
              </a:gsLst>
              <a:lin ang="504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1271"/>
            <p:cNvSpPr/>
            <p:nvPr/>
          </p:nvSpPr>
          <p:spPr>
            <a:xfrm rot="6180000">
              <a:off x="4896720" y="3120840"/>
              <a:ext cx="2098080" cy="2212560"/>
            </a:xfrm>
            <a:custGeom>
              <a:avLst/>
              <a:gdLst>
                <a:gd name="textAreaLeft" fmla="*/ 0 w 2098080"/>
                <a:gd name="textAreaRight" fmla="*/ 2098440 w 2098080"/>
                <a:gd name="textAreaTop" fmla="*/ 0 h 2212560"/>
                <a:gd name="textAreaBottom" fmla="*/ 2212920 h 22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97cdcc"/>
                </a:gs>
                <a:gs pos="100000">
                  <a:srgbClr val="ffffff"/>
                </a:gs>
              </a:gsLst>
              <a:lin ang="1920000"/>
            </a:gra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1272"/>
            <p:cNvSpPr/>
            <p:nvPr/>
          </p:nvSpPr>
          <p:spPr>
            <a:xfrm rot="9240000">
              <a:off x="4076640" y="4083840"/>
              <a:ext cx="2212200" cy="2097720"/>
            </a:xfrm>
            <a:custGeom>
              <a:avLst/>
              <a:gdLst>
                <a:gd name="textAreaLeft" fmla="*/ 0 w 2212200"/>
                <a:gd name="textAreaRight" fmla="*/ 2212560 w 2212200"/>
                <a:gd name="textAreaTop" fmla="*/ 0 h 2097720"/>
                <a:gd name="textAreaBottom" fmla="*/ 2098080 h 209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336666"/>
                </a:gs>
                <a:gs pos="100000">
                  <a:srgbClr val="ffffff"/>
                </a:gs>
              </a:gsLst>
              <a:lin ang="20460000"/>
            </a:gra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1273"/>
            <p:cNvSpPr/>
            <p:nvPr/>
          </p:nvSpPr>
          <p:spPr>
            <a:xfrm rot="12360000">
              <a:off x="2854800" y="4083480"/>
              <a:ext cx="2212560" cy="2097720"/>
            </a:xfrm>
            <a:custGeom>
              <a:avLst/>
              <a:gdLst>
                <a:gd name="textAreaLeft" fmla="*/ 0 w 2212560"/>
                <a:gd name="textAreaRight" fmla="*/ 2212920 w 2212560"/>
                <a:gd name="textAreaTop" fmla="*/ 0 h 2097720"/>
                <a:gd name="textAreaBottom" fmla="*/ 2098080 h 209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1734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1274"/>
            <p:cNvSpPr/>
            <p:nvPr/>
          </p:nvSpPr>
          <p:spPr>
            <a:xfrm rot="15420000">
              <a:off x="2150280" y="3120840"/>
              <a:ext cx="2098080" cy="2212560"/>
            </a:xfrm>
            <a:custGeom>
              <a:avLst/>
              <a:gdLst>
                <a:gd name="textAreaLeft" fmla="*/ 0 w 2098080"/>
                <a:gd name="textAreaRight" fmla="*/ 2098440 w 2098080"/>
                <a:gd name="textAreaTop" fmla="*/ 0 h 2212560"/>
                <a:gd name="textAreaBottom" fmla="*/ 2212920 h 22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428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1275"/>
            <p:cNvSpPr/>
            <p:nvPr/>
          </p:nvSpPr>
          <p:spPr>
            <a:xfrm rot="18540000">
              <a:off x="2422080" y="1991160"/>
              <a:ext cx="2097720" cy="2212200"/>
            </a:xfrm>
            <a:custGeom>
              <a:avLst/>
              <a:gdLst>
                <a:gd name="textAreaLeft" fmla="*/ 0 w 2097720"/>
                <a:gd name="textAreaRight" fmla="*/ 2098080 w 2097720"/>
                <a:gd name="textAreaTop" fmla="*/ 0 h 2212200"/>
                <a:gd name="textAreaBottom" fmla="*/ 2212560 h 221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d6e0e0"/>
                </a:gs>
                <a:gs pos="100000">
                  <a:srgbClr val="ffffff"/>
                </a:gs>
              </a:gsLst>
              <a:lin ang="1116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1276"/>
            <p:cNvSpPr/>
            <p:nvPr/>
          </p:nvSpPr>
          <p:spPr>
            <a:xfrm>
              <a:off x="5151600" y="152388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"/>
                </a:rPr>
                <a:t>Standards-Based Curricul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1277"/>
            <p:cNvSpPr/>
            <p:nvPr/>
          </p:nvSpPr>
          <p:spPr>
            <a:xfrm>
              <a:off x="1864080" y="302544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Staff Development &amp; Curricular Consider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1278"/>
            <p:cNvSpPr/>
            <p:nvPr/>
          </p:nvSpPr>
          <p:spPr>
            <a:xfrm>
              <a:off x="6414120" y="302544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"/>
                </a:rPr>
                <a:t>Clearly Stated &amp; Focused Objectiv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1279"/>
            <p:cNvSpPr/>
            <p:nvPr/>
          </p:nvSpPr>
          <p:spPr>
            <a:xfrm>
              <a:off x="5963040" y="489744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"/>
                </a:rPr>
                <a:t>Internal &amp; External Assess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1280"/>
            <p:cNvSpPr/>
            <p:nvPr/>
          </p:nvSpPr>
          <p:spPr>
            <a:xfrm>
              <a:off x="2314080" y="489744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"/>
                </a:rPr>
                <a:t>Formative &amp; Timely Feedback to Staff &amp; Stud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1281"/>
            <p:cNvSpPr/>
            <p:nvPr/>
          </p:nvSpPr>
          <p:spPr>
            <a:xfrm>
              <a:off x="4138560" y="573084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Collaborative Scoring &amp; Data 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1282"/>
            <p:cNvSpPr/>
            <p:nvPr/>
          </p:nvSpPr>
          <p:spPr>
            <a:xfrm>
              <a:off x="3126600" y="152460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Individualized Instruction &amp; Student Lear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6480" y="3196440"/>
              <a:ext cx="2539440" cy="16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entury"/>
                </a:rPr>
                <a:t>Purpos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"/>
                </a:rPr>
                <a:t>Building High Levels of Student Achie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empus Sans ITC"/>
              </a:rPr>
              <a:t>Ongoing Assessment</a:t>
            </a:r>
            <a:br>
              <a:rPr sz="4400"/>
            </a:br>
            <a:br>
              <a:rPr sz="1200"/>
            </a:br>
            <a:r>
              <a:rPr b="0" lang="en-US" sz="2400" spc="-1" strike="noStrike">
                <a:solidFill>
                  <a:srgbClr val="3333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Laser-like focus on student proficiency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ollaborative scoring and utilization of rubrics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mmediate feedback to students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sults as “tools” guiding instruction and stud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520" y="3047760"/>
            <a:ext cx="3886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1.) </a:t>
            </a:r>
            <a:r>
              <a:rPr b="1" lang="en-US" sz="2800" spc="-1" strike="noStrike">
                <a:solidFill>
                  <a:srgbClr val="333399"/>
                </a:solidFill>
                <a:latin typeface="Tempus Sans ITC"/>
              </a:rPr>
              <a:t>Nonfiction Writing Tasks (Grade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Cross-curricular conn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lignment with district curriculum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752480" y="5105520"/>
            <a:ext cx="2438640" cy="1469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67080" y="3025800"/>
            <a:ext cx="457200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2.) </a:t>
            </a:r>
            <a:r>
              <a:rPr b="1" lang="en-US" sz="2800" spc="-1" strike="noStrike">
                <a:solidFill>
                  <a:srgbClr val="333399"/>
                </a:solidFill>
                <a:latin typeface="Tempus Sans ITC"/>
              </a:rPr>
              <a:t>Internal Assessments in ELA &amp; Math (Grades 2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lignment with NYS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tem and grou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ross-curricular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lignment with district curriculum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99072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81952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21:00:56Z</dcterms:created>
  <dc:creator>North Rockland Schools</dc:creator>
  <dc:description/>
  <dc:language>en-US</dc:language>
  <cp:lastModifiedBy>North Rockland Schools</cp:lastModifiedBy>
  <dcterms:modified xsi:type="dcterms:W3CDTF">2007-03-08T18:01:21Z</dcterms:modified>
  <cp:revision>2</cp:revision>
  <dc:subject/>
  <dc:title>Assess for Success</dc:title>
</cp:coreProperties>
</file>